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B4DC-B19B-4188-8735-BDD05448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8D6-7017-4BAF-8EA9-1F8501E9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31B-924B-41D4-9CEA-B5C630C8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58B-2716-449D-B928-B7E40D4F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C7AB-586D-4F5E-AE11-136CB42A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0327-D332-4434-AB86-CA280B53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178F-9A33-4AC1-8A0C-274320D0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665F-83EA-4FAF-85FB-30F59B40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9938-73A5-452E-892B-AA533707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CF8E-CB5C-450E-9352-447FC1C1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72D7-8613-4096-B471-C4B49FB3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943-0253-49B0-9C61-2E5714E7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B64D-F35C-4958-82F5-8C62C413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21BA-E1D7-467D-9AA7-7A99F2C5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E554-F761-4F19-9546-13FBE3C2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38DF-5BD1-4523-978C-B4772E96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1CDD-33E7-4521-90EF-3D9E5E43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CFEE7-7CBE-4D59-B8FF-51EE757F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161CF-DD4E-4FAE-B88E-0FC57C7A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897D7-0BF0-43A2-8991-04D1F420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7916A-5BA5-4E8B-AA64-E03DA69E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A7A2AE-E02B-4988-85A5-AE4C4A54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B41-1DA3-4407-83E7-DB16F105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FF0E2-932F-479D-96DF-54BB774D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4515D-FA0E-492E-B7DF-DC5D0459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FE47B-591C-4451-AD9C-8C90B2C4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C1BB6-3D7E-42CE-B716-62DAF44F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1390F-C975-4978-8520-3E34B79D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1E8B4-9296-442F-9929-BF3B4C00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4DF5A-355F-4ECA-BAAC-8120E3AF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A7B72-3DD7-4708-9685-BA86F550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DBFCF-94D9-4EBC-8B6F-5579F388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A589F-FEAA-4566-92AC-1269F433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A10-2C99-4671-BE4F-1DC74D24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8A564-6156-4B20-8610-FFDC225F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7B230-D034-4124-A95E-E8A1A77C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D4C09-272E-4DB6-8AFB-EF712638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F2C8-AD86-4C05-A5BA-B473F1AB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752B5-4676-4E9F-8AA9-8B80549F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9D79A-54C8-4268-A4C6-E87DDFCF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1C844-8D8F-413A-A02A-B783926C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9374B-C790-4803-BF74-EAFEBA5E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7EBD8-C3D4-402F-A4B9-5E673DDF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02F9-4ACD-4542-8A98-049DBE68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DD1-5D6E-4A07-944E-AF45DDF9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9C9-D99D-41E8-944C-610C5664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D0D-5617-459A-972B-77545DD7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040-5EF5-46C9-9E23-D82674FA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9923-B7DE-4313-B373-F12E53A67249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CamtasiaStudio_titleandmain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03C2-7421-4F23-BD39-E604C4C79ED7}" type="slidenum">
              <a:rPr b="0" lang="en-US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9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7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1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5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9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EC22-0A5F-43E7-9092-23C3B2128985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3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5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9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3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82D3-4075-482C-8BD0-8777B55DEFB2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?hl=en-GB&amp;gl=GB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4c600"/>
                </a:solidFill>
                <a:latin typeface="Arial"/>
                <a:ea typeface="Arial"/>
              </a:rPr>
              <a:t>Flipped Learning</a:t>
            </a:r>
            <a:br>
              <a:rPr sz="4000"/>
            </a:br>
            <a:r>
              <a:rPr b="0" lang="en-GB" sz="2000" spc="-1" strike="noStrike">
                <a:solidFill>
                  <a:srgbClr val="94c600"/>
                </a:solidFill>
                <a:latin typeface="Arial"/>
                <a:ea typeface="Arial"/>
              </a:rPr>
              <a:t>Anne Rajakumar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6f9500"/>
                </a:solidFill>
                <a:latin typeface="Arial"/>
                <a:ea typeface="Arial"/>
              </a:rPr>
              <a:t>Head of Japanese</a:t>
            </a:r>
            <a:br>
              <a:rPr sz="2000"/>
            </a:br>
            <a:r>
              <a:rPr b="0" lang="en-GB" sz="2000" spc="-1" strike="noStrike">
                <a:solidFill>
                  <a:srgbClr val="4a6300"/>
                </a:solidFill>
                <a:latin typeface="Arial"/>
                <a:ea typeface="Arial"/>
              </a:rPr>
              <a:t>Hockerill Anglo-European College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94c600"/>
                </a:solidFill>
                <a:latin typeface="Arial"/>
                <a:ea typeface="Arial"/>
              </a:rPr>
              <a:t>japanese4schools.co.uk</a:t>
            </a: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7" name="Picture 2" descr="http://www.washington.edu/teaching/files/2012/11/FlippedClassroomUWcolors-1-1024x242.jpg"/>
          <p:cNvPicPr/>
          <p:nvPr/>
        </p:nvPicPr>
        <p:blipFill>
          <a:blip r:embed="rId1"/>
          <a:stretch/>
        </p:blipFill>
        <p:spPr>
          <a:xfrm>
            <a:off x="457200" y="3581280"/>
            <a:ext cx="8229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4c600"/>
                </a:solidFill>
                <a:latin typeface="Century Gothic"/>
              </a:rPr>
              <a:t>Borrowing Video Tutori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905120" y="2895480"/>
            <a:ext cx="5410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lnSpc>
                <a:spcPct val="90000"/>
              </a:lnSpc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e68200"/>
                </a:solidFill>
                <a:uFillTx/>
                <a:latin typeface="Century Gothic"/>
                <a:ea typeface="Arial"/>
                <a:hlinkClick r:id="rId1"/>
              </a:rPr>
              <a:t>Youtube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lnSpc>
                <a:spcPct val="90000"/>
              </a:lnSpc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Century Gothic"/>
                <a:ea typeface="Arial"/>
              </a:rPr>
              <a:t>BBC Languages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lnSpc>
                <a:spcPct val="90000"/>
              </a:lnSpc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Century Gothic"/>
                <a:ea typeface="Arial"/>
              </a:rPr>
              <a:t>Learners TV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4c600"/>
                </a:solidFill>
                <a:latin typeface="Century Gothic"/>
              </a:rPr>
              <a:t>Making Video Tutori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218960" y="2438280"/>
            <a:ext cx="6777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Free Screen and audio Recording softwar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Ipad – Explain Everything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Camtasia (you can generally start with a free trial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7920" y="914400"/>
            <a:ext cx="627192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4c600"/>
                </a:solidFill>
                <a:latin typeface="Century Gothic"/>
              </a:rPr>
              <a:t>Hosting, Modifying and Tracking Student Use of Video Tutori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905120" y="3124080"/>
            <a:ext cx="4572000" cy="11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7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3e3d2d"/>
                </a:solidFill>
                <a:latin typeface="Century Gothic"/>
                <a:ea typeface="Arial"/>
              </a:rPr>
              <a:t>Edpuzzle</a:t>
            </a:r>
            <a:endParaRPr b="0" lang="en-US" sz="3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7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3e3d2d"/>
                </a:solidFill>
                <a:latin typeface="Century Gothic"/>
                <a:ea typeface="Arial"/>
              </a:rPr>
              <a:t>Google Classrooms</a:t>
            </a:r>
            <a:endParaRPr b="0" lang="en-US" sz="3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GB" sz="3600" spc="-1" strike="noStrike">
                <a:solidFill>
                  <a:srgbClr val="94c600"/>
                </a:solidFill>
                <a:latin typeface="Century Gothic"/>
              </a:rPr>
              <a:t>‘</a:t>
            </a:r>
            <a:r>
              <a:rPr b="0" lang="en-GB" sz="3600" spc="-1" strike="noStrike">
                <a:solidFill>
                  <a:srgbClr val="94c600"/>
                </a:solidFill>
                <a:latin typeface="Century Gothic"/>
              </a:rPr>
              <a:t>Flipped Learning’ in the classroo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Can be used to deliver lesson content to smaller groups of students, whilst other groups work on different activiti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Allows working at individual pac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Reduces noise in the classroo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4c600"/>
                </a:solidFill>
                <a:latin typeface="Century Gothic"/>
              </a:rPr>
              <a:t> ‘</a:t>
            </a:r>
            <a:r>
              <a:rPr b="0" lang="en-GB" sz="4000" spc="-1" strike="noStrike">
                <a:solidFill>
                  <a:srgbClr val="94c600"/>
                </a:solidFill>
                <a:latin typeface="Century Gothic"/>
              </a:rPr>
              <a:t>Flipped Learning’ Case Study – Using video tutorials in Japane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14400" y="3200400"/>
          <a:ext cx="7391520" cy="2592360"/>
        </p:xfrm>
        <a:graphic>
          <a:graphicData uri="http://schemas.openxmlformats.org/drawingml/2006/table">
            <a:tbl>
              <a:tblPr/>
              <a:tblGrid>
                <a:gridCol w="1333440"/>
                <a:gridCol w="1357200"/>
                <a:gridCol w="1567080"/>
                <a:gridCol w="1566720"/>
                <a:gridCol w="1567080"/>
              </a:tblGrid>
              <a:tr h="758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o. of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ate of Ex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verage 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eaching 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1-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Octo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vent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2-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 Octo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vent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3-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Octo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ideo Tuto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4-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 Octo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ideo Tuto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5-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 Octo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ideo Tuto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  <p:sp>
        <p:nvSpPr>
          <p:cNvPr id="348" name="Rectangle 4"/>
          <p:cNvSpPr/>
          <p:nvPr/>
        </p:nvSpPr>
        <p:spPr>
          <a:xfrm>
            <a:off x="914400" y="4648320"/>
            <a:ext cx="7391520" cy="1143000"/>
          </a:xfrm>
          <a:prstGeom prst="rect">
            <a:avLst/>
          </a:prstGeom>
          <a:noFill/>
          <a:ln w="507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7-Point Star 1"/>
          <p:cNvSpPr/>
          <p:nvPr/>
        </p:nvSpPr>
        <p:spPr>
          <a:xfrm>
            <a:off x="8163000" y="4991040"/>
            <a:ext cx="380880" cy="457200"/>
          </a:xfrm>
          <a:custGeom>
            <a:avLst/>
            <a:gdLst/>
            <a:ahLst/>
            <a:rect l="l" t="t" r="r" b="b"/>
            <a:pathLst>
              <a:path w="381000" h="457200">
                <a:moveTo>
                  <a:pt x="-1" y="294028"/>
                </a:moveTo>
                <a:lnTo>
                  <a:pt x="58670" y="203474"/>
                </a:lnTo>
                <a:lnTo>
                  <a:pt x="37731" y="90554"/>
                </a:lnTo>
                <a:lnTo>
                  <a:pt x="131831" y="90555"/>
                </a:lnTo>
                <a:lnTo>
                  <a:pt x="190500" y="0"/>
                </a:lnTo>
                <a:lnTo>
                  <a:pt x="249169" y="90555"/>
                </a:lnTo>
                <a:lnTo>
                  <a:pt x="343269" y="90554"/>
                </a:lnTo>
                <a:lnTo>
                  <a:pt x="322330" y="203474"/>
                </a:lnTo>
                <a:lnTo>
                  <a:pt x="381001" y="294028"/>
                </a:lnTo>
                <a:lnTo>
                  <a:pt x="296219" y="344282"/>
                </a:lnTo>
                <a:lnTo>
                  <a:pt x="275280" y="457202"/>
                </a:lnTo>
                <a:lnTo>
                  <a:pt x="190500" y="406948"/>
                </a:lnTo>
                <a:lnTo>
                  <a:pt x="105720" y="457202"/>
                </a:lnTo>
                <a:lnTo>
                  <a:pt x="84781" y="344282"/>
                </a:lnTo>
                <a:lnTo>
                  <a:pt x="-1" y="294028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847800" y="2057400"/>
          <a:ext cx="7467480" cy="3524400"/>
        </p:xfrm>
        <a:graphic>
          <a:graphicData uri="http://schemas.openxmlformats.org/drawingml/2006/table">
            <a:tbl>
              <a:tblPr/>
              <a:tblGrid>
                <a:gridCol w="1346040"/>
                <a:gridCol w="1371600"/>
                <a:gridCol w="1582920"/>
                <a:gridCol w="1584360"/>
                <a:gridCol w="1582560"/>
              </a:tblGrid>
              <a:tr h="792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o. of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ate of Ex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verage s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eaching 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1-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 Febru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vent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2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2-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 Janu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it: 29 Ap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it: 8 M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vent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3-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 Janu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ideo Tuto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4-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 Dece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ideo Tuto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5-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 Dece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ideo Tuto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  <p:sp>
        <p:nvSpPr>
          <p:cNvPr id="351" name="Rectangle 2"/>
          <p:cNvSpPr/>
          <p:nvPr/>
        </p:nvSpPr>
        <p:spPr>
          <a:xfrm>
            <a:off x="838080" y="4419720"/>
            <a:ext cx="7506000" cy="1218960"/>
          </a:xfrm>
          <a:prstGeom prst="rect">
            <a:avLst/>
          </a:prstGeom>
          <a:noFill/>
          <a:ln w="507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7-Point Star 4"/>
          <p:cNvSpPr/>
          <p:nvPr/>
        </p:nvSpPr>
        <p:spPr>
          <a:xfrm>
            <a:off x="8153280" y="4772160"/>
            <a:ext cx="381240" cy="457200"/>
          </a:xfrm>
          <a:custGeom>
            <a:avLst/>
            <a:gdLst/>
            <a:ahLst/>
            <a:rect l="l" t="t" r="r" b="b"/>
            <a:pathLst>
              <a:path w="381000" h="457200">
                <a:moveTo>
                  <a:pt x="-1" y="294028"/>
                </a:moveTo>
                <a:lnTo>
                  <a:pt x="58670" y="203474"/>
                </a:lnTo>
                <a:lnTo>
                  <a:pt x="37731" y="90554"/>
                </a:lnTo>
                <a:lnTo>
                  <a:pt x="131831" y="90555"/>
                </a:lnTo>
                <a:lnTo>
                  <a:pt x="190500" y="0"/>
                </a:lnTo>
                <a:lnTo>
                  <a:pt x="249169" y="90555"/>
                </a:lnTo>
                <a:lnTo>
                  <a:pt x="343269" y="90554"/>
                </a:lnTo>
                <a:lnTo>
                  <a:pt x="322330" y="203474"/>
                </a:lnTo>
                <a:lnTo>
                  <a:pt x="381001" y="294028"/>
                </a:lnTo>
                <a:lnTo>
                  <a:pt x="296219" y="344282"/>
                </a:lnTo>
                <a:lnTo>
                  <a:pt x="275280" y="457202"/>
                </a:lnTo>
                <a:lnTo>
                  <a:pt x="190500" y="406948"/>
                </a:lnTo>
                <a:lnTo>
                  <a:pt x="105720" y="457202"/>
                </a:lnTo>
                <a:lnTo>
                  <a:pt x="84781" y="344282"/>
                </a:lnTo>
                <a:lnTo>
                  <a:pt x="-1" y="294028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7:51:58Z</dcterms:created>
  <dc:creator>r.eash</dc:creator>
  <dc:description/>
  <dc:language>en-US</dc:language>
  <cp:lastModifiedBy>manprof</cp:lastModifiedBy>
  <dcterms:modified xsi:type="dcterms:W3CDTF">2016-02-21T14:35:01Z</dcterms:modified>
  <cp:revision>18</cp:revision>
  <dc:subject/>
  <dc:title>Slide 1</dc:title>
</cp:coreProperties>
</file>